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EA44-24B2-47D2-96D1-17380470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BC16-CB06-4850-9414-A49E5597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5919D-8180-452C-A66E-B2BBB0D6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4FCD7-5DD9-455F-BAB1-EF3AA0BA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7878A-4642-4A14-8A67-D3412237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2CD59-F105-4D9F-903A-8BB81264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B7E4A-EA77-445D-871E-5B56D1D6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81685-4872-4228-AF33-E799235D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A7119-1BDA-495B-8973-39BA6238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F1EF0-F587-4E63-A8D7-B1CC2A57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1A5B0-35FB-4832-8E52-E5E91405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C4034-EC02-479A-A21B-07C6DAB2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399-0BD1-40C1-BC6C-D0D0DDE5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1DF61-444A-430D-9332-44A25B25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E4EEB-052B-45D7-8C93-B2C405BD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79E47-0EE4-45A2-BDAE-F09FD736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4089B-ED68-471D-8D37-DF5BEFA6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5A6B7-48DD-479A-830B-39033721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320E3-9F61-40AF-8FF3-7C4BB7E7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883B5-DF58-485D-B812-8351E5CF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C3224-C903-46DC-8A64-2436BF95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0FD3C-2B88-4A56-8185-79EA528B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A0633-57CD-4F4F-B582-4BE2992D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4041-FE00-4449-8BA6-21426CB5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9724D-F999-4931-8E22-64F03B09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6493A-9A25-4653-84FC-A0C7A10D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2EC58-0AEF-471F-A3D6-E5827299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34455-1DB3-4C43-A880-96508A17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36627-2ED0-4257-8559-0F2A1544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E9D06-1BDA-4667-901C-C485C1AF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35C10-9E11-4078-96C6-429A1ED5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1528F-8BE3-4C92-B4A7-648E7423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B0A5C-0264-4349-BCFA-969919B4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C1389-87B7-430A-9393-BA97F212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57A7-C132-48B0-A6D7-77691D1B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9B4D1-D0FB-43EB-AD18-E023390C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CBF8E-E40D-414F-8CA9-EED36939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8F5F7-D26C-4EF9-B9D2-F6C98787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AC31D-6F15-4092-BF4A-85368D31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1EA19-5A24-442A-9889-AB829DAB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67550-C21F-4804-B3E3-61673867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3770A-97D5-4649-8301-47C17F65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469E4-1991-41CE-8489-E9E19396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C5801-A601-49B1-A4F7-9E438DDF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EF329-386E-4FF5-9016-B722DA4C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F2EE-DE65-43E7-AE64-9A8CECD8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EE2C8-6DA7-48B4-A93D-7E624CF4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82AEF-2FC0-46B3-895B-55BD14E9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7FDC0-5CF2-4A87-B89E-6749A408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2367A-F86E-4C7E-9394-829ACBC0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CD710-2F29-47F6-9B62-9ED9DC8B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EE9B2-309B-4EA1-9731-00E88F2D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BCAFF-259A-4656-81AE-586D065C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62AEE-4034-4935-A792-3DB1FBCD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468D25-866A-434E-B549-909C31C7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5F638-9DE3-49E9-A219-E3020CC2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9936-FCF7-4AE2-9428-9A402B26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0EE5E6-3E12-427E-90DC-4E721074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106460-D043-4D99-8110-5B38E2DA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B2A14E-5B66-48DB-A890-46DE3DA0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1C833A-DF85-4512-ADCD-89FBC064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09A144-C920-4DBA-AFFC-33D4CDE4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53EAE-118A-476E-81D9-2DE62597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D276A3-9E56-4371-BE54-78C3C898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9FDC3A-1BE8-4BCB-B4D5-C271C806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1B94F6-7F1D-4821-B55A-DB761FA8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177CB6-5DAB-4D92-9FDF-C7618626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1169-1875-47BD-AE4A-BE9D0AE6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6E124-0472-4E99-ACB8-BCDACFE9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544BB-26C0-4E41-B27C-F6CC183A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6875F-0F01-48D9-81C8-8D4FF82F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277FFC-9932-4832-BCDD-0256B76F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EB1B28-4511-4D58-8F96-2E4B9C1B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BF0EF-DA82-49C1-9B45-48AB22C7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EAF162-DDE5-4681-BF87-3B8038B0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B58AC5-6839-4AEA-9CDB-94AF012A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2D6165-F29B-43FC-8094-30A83FC6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C90DF1-CC8C-49C8-A2BC-AC6DD5E6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9062-98BC-4BCF-AF4F-C6095D1E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226087-31DD-43FB-BAFC-F4DC5620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5380B8-263F-4605-A815-66747273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D02E9B-7881-41AB-B3B3-C2662F07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28EE0A-5B8E-412F-8B09-3E0A8146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7A6B94-0DF1-432D-A7C4-5D04ADE4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8CA5CB-DB0D-4C4D-8FE7-49A0A2F6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D71CBC-D495-4047-B5E9-578FAE19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A4D2B4-64B9-4C45-8D66-3466FBD9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DFFC1F-DEB0-4B70-A789-86402927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895D4F-17C5-44FF-95D1-5B537218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73F6-CA15-4B8E-A351-666768FF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5933B2-C440-4AAA-AF15-CBEE1D08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972DE5-F27F-477A-AF2C-E8D726FD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87E6C8-827C-45A9-A81E-C227ECC7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19626C-0A43-4A3A-8B8B-955401A4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57E937-0236-4519-A772-3006DEF5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439F7C-2976-46B6-9FA0-E539FA46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62F015-90D0-41D3-94BB-B7FFC218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AE4D43-B026-4E21-8712-6F819032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E49423-0AB9-4196-B9F0-A894C453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DCC71E-DE17-43CF-BBFD-A9C9E7EF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8F92-B56D-4533-A13A-66DF3C97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6B8F5E-79B5-41EA-8FD2-5FADFE43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B24E75-6C65-4319-8A08-3AEA8DC4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097E60-06CA-40A6-971F-6D6C98A5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EE1D8B-4829-419A-A309-8A537C93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E0EBD3-6BB3-4C0D-B654-604618D5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B858B5-B2D6-4475-BCE7-B1E99E8A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9C3B3D-9954-4980-98C6-33D9AC34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BF9769-7BC3-4810-A5B5-66E1305C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71C85C-D323-43AE-82C2-FE0B2511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150270-6B10-4DA8-B03B-8A292F47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6DA-B525-4B9F-BDEA-F1289F96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6E35-7253-47A6-8192-8BCD1D6F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A7443F-1F7D-4B92-9E7C-D284C857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BCAF50-7887-467C-8E0D-30C860F8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771176-13E3-4CC7-A38E-C9E350CB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1C9273-D08B-42EF-8A0A-04E30112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5ADBC9-75E9-4FF6-A89E-AD740281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32846A-016B-46B1-B025-BC6122FA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D20E0D-C57A-45A1-B8FF-40B52D7D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24FB36-BEDD-48A2-B5CC-F6AB4BB7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F62CEF-2D3D-45F1-8352-F75D3CCB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725FDC-25DA-478D-97B1-A30D293C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C40F-9EC9-4CE8-9CE9-7FB836C8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047596-2AE8-4444-8440-66E63F7D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36A181-524C-4C11-8742-B3176475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6E684A-DB43-4C46-A73F-38B624C8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114851-9350-4B14-8BD3-08658953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F0B9B5-12D1-44D7-97B0-641EC55B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FE055E-3BFC-4480-B54C-8FECE9F1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8C45F0-8655-4E50-B80A-905FAD84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4C09A0-F154-46A9-9026-5DCCB4C1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64EEA0-47FF-464D-949F-F6D16D88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499EE2-C1AA-4A8B-B385-1D0D009C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5BAA-C1F8-42E7-A41B-1C9D4DC6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D29AE1-78D2-421C-8D3F-83373630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3A73DB-E73E-4504-8C22-485D6E54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BE3D96-41E9-4847-B205-C902EA3C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F86685-E061-4DC6-ABF5-6CA4AE04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A97404-BB59-4D34-8F29-BA521816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A784E8-2937-408C-AB4C-62E5577A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B98FD2-5BE4-41A9-9AE7-4BC9F19A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79117D-455E-4E3C-AAD1-216E00FF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D2B658-B427-460F-9BA6-901D5152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02B639-63BD-4999-8B52-DCD888AE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7D86-E359-47E6-8973-2EBA9C8F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8D69C1-03F2-4FAC-94DD-ADB558BE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6E5537-D0DB-45EB-818A-298ADC9A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92E7CA-3947-42ED-BD92-A25FB463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2C6067-F675-4AAB-84E3-59A6E0AD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35D13B-82C1-4CF7-BEBF-56906CE9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6553A8-1E8E-470B-8D85-5C9871D1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EF867B-4CC9-4C00-881A-D4100E16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291E3C-4935-42F9-86FE-F3DF7B13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742F12-48E2-451E-9849-C0AEBEE0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4CB530-C7AA-4D33-8324-51430B3B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3FD6-A5CC-4963-85C9-EE9F52E3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C27410-753A-4998-8E15-1430E039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8A0E3A-D62D-49F5-A15A-DBDD84CD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8FC595-12D1-4962-BD06-CB867861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CEE304-AE70-482E-933B-2DE13BE3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99B6CA-7DAC-4159-B732-3C654AEC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4375F8-A726-4206-A249-F7FCA9DC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741E0D-5D20-4F58-9E80-F794DE36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5160AD-2E34-44AA-97FB-E728EB87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0A0829-3E28-4BB1-A68C-1D5A016E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D6FB69-A60D-400A-9F8F-15B06F6A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C1B34-777D-4BFC-BBAA-FC951A77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247340-1D61-4099-84E0-D55CAF13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632B0D-738D-4984-963A-44CD34D8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C5EAF3-ACE7-4EBC-99C4-D780F280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46838-1FBC-4D3C-BB1A-F27BEBF2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5563E-3DDE-4F63-9DE2-03962F10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EB4A5-3BF6-4ACB-A8ED-CD20955F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FFD9F-4A68-45A8-BE67-5264BFB4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B51-C596-4884-822D-2554849B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9A151-BE13-41ED-BBA4-9AE5DCAB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ACCB0-14E6-4932-B605-0819CFD3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735D3-DB38-4BA3-AF5C-8ADDE837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A005B-2E0E-4F7B-90B6-3043C0A4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2561C-6061-4ADF-B1D3-86223BC9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A78EB-BDD1-4E66-B47D-8D1F81C5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DF713-A8F4-4C2C-AC7D-AC54D7FE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AA0D8-F93C-4B31-9ECD-D5CB35C3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FBE20-5DD9-46F2-BB25-D38ACF0B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B09C8-9EED-47A8-83F3-A1C6C92A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1F91-FBEA-4DF7-BD02-590EF4B9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FFF1E-E489-41A3-81E9-9C4D6B51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74ED0-2C68-4326-B099-78147EA9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EAE96-8D4A-409D-9468-64E05FC6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ADB32-C734-4C76-879D-3B8DCD8F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C4F0A-2812-4ED9-AC3A-8C8A73F2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EA150-AB86-492B-AA06-133C557C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375F9-A168-45FE-8D7C-8247C1B4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DD0D4-9C87-46CC-B5E7-E21C05D5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0104D-D3D0-4E30-99F1-CFE314D0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FE81F-3D7A-46BB-8B39-96A4A91F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714-3EB7-4A0B-84FE-8801FC3D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E890D-2A90-4883-9D0D-3575AEF6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473D1-FA51-443B-933C-C4EC3EB3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4DB61-F050-4617-AC85-C7C74DD0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A2C1F-7469-46BF-A789-7A6B0C69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61D56-AAFB-4A0A-8586-E9562071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E9497-FCE2-4D19-8DD1-5FCD52E2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AC34C-DFB6-4BF3-AD17-E9E21025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67DD3-0DD9-4895-8284-85CB0BBA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FAE01-B367-4081-86D3-42DD4D78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6B736-A075-4C12-8B37-B482B977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44C1-5240-4F1F-AF9A-3DE20B3D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E4697-94AE-4C4E-AFBE-EA112FD6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EB6CF-3D44-4942-ACEF-DF6F19FF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C1AEB-E7DD-4EAC-A7FC-7A2210DA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9352B-19F3-4FB0-B1DA-81CCBDB3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34BEB-BD8C-4113-AD4F-9A4D17DC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9CCAC-1F82-4144-80F9-F5BEE9D6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8608D-80DA-4992-BA6E-7F53E922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D0C11-2F4E-4323-AF85-604ED52A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139CF-FABD-459B-8C8F-4B0654F2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B0618-0CEC-4CA3-97A1-A0AD0F17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C83-BE27-4A7D-BA63-90896036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EFF0A-C466-49AA-A842-89B92800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66C60-39D8-402F-8F55-5E3ED31D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B016C-9ABB-4645-93F6-0C824595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79665-C278-4022-8171-ECD1908A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2311D-3EF2-40B0-BBBB-C8A746B5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0762A-3432-497F-BD42-13EB9ED9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515AC-1007-4EC7-93B3-2D7408DB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23B93-8B3B-4A45-877C-F4C9E156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113A6-C13C-44A2-A8A7-0180B8BA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A7BD9-C237-4B1F-803A-0D65C0B6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5A07-6EA2-49FE-8ED0-65793942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DB59C-6B79-4EBE-A817-3E37DE5F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85EF4-395C-4ADF-89B1-4A32CDE9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754B3-59F2-4575-A87D-681A5C3E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6D72E-71B6-4C10-899B-B11476BB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8A13C-AC04-4DD1-BD4C-3705F179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26C94-ECFD-400D-AAC8-684E7F75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261F3-1D04-4D58-8CB8-0E272B3F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72E48-151E-4967-B1A6-EE6622C3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70812-88C4-4BD5-83ED-B270FF40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BEDAA-D858-4549-9A4C-274188B6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EC5-6DA4-4F8C-AC01-620D5408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F87CB-4492-4F2A-9002-46BAAE72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D55FB-3532-4639-BC32-48ABE112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39B4B-1B24-4F0C-8D10-1FB4FDF9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B15B7-5878-4A49-8738-698C9BAB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3BA5D-11D3-4989-B3D0-1E68EF76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44383-035A-449A-8D05-B238C3BC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F7621-616E-4A84-89FC-E369BEBE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E23DE-3B74-49C9-8E23-92404AAB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4E8BF-152B-4A55-AD04-DB3888C9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D2256-EC8B-4F75-948D-7E3715A2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1B93-C369-4215-88F2-4D8A396C5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AC2A-BEB8-4649-908B-24ACBDB71F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4778-277D-4E30-AE6B-A87374C4C5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631B-63DA-4F5F-9C87-444034C100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12C2-A7CC-405A-8027-1738A905BC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9939-D3FA-44F4-871F-19EC8E3814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6237-14C0-4C51-AD8B-A286924DF2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F362-94B8-43E7-9218-E648347339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5A1C-FCE3-49CC-89E5-9715440886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380F-A737-4DED-A65F-EE3A551DB3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0286-80C8-44E2-B997-746893427F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D756-3DA0-4CE5-A910-BE312EC1C6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EA4E-B489-4023-8497-879A8AC651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7E7D-6A00-4EB4-A8D6-24703EE032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CBB6-96B6-4F9D-A0A5-39FB6F774B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0E18-6231-45DA-A43C-C881839AA0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A7C9-FC6A-44AF-B56A-4604A88BB3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8B0B-9E7F-4DEC-B95F-217821A545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C14A-853F-45CC-AF60-89D5C7EC82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8A16-BCA0-41C6-8A52-FC5146F888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0509-026A-45D8-987E-511F9E185E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D8E4-7D52-483A-8B55-B5034CF69B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DB1F-D36C-4B50-BB90-828BBABADB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2580-85E3-494A-BE1B-8ABF7C7299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7B59-B7D0-4800-8B5A-3311CF2B9B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1E71-9122-4371-A097-657B09ABB3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9786-AA4F-43B6-B5F7-37F50E6FAF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DBC1-C026-4EE0-8D78-F7BC71EE5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4785-7A62-422C-9697-3484C166AC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B246-19F6-4A34-AABA-CD7403E982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A009-5082-4EF9-9DED-CF82166DAC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4A7B-3494-4233-ADE1-FA8D0AEC01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61AD-C31F-469C-AF96-5925EA48EC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78B6-F7BD-45B8-80C4-BFC4CC32A1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BF5F-BA43-4F49-9FEC-7EC5A55360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0BD9-579B-4B1E-9B87-1353E3042A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BB4C-B434-48FC-B047-588D37E0DF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AEA8-A54C-4541-B0A5-647DB830C6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F9BD-7B99-4245-8CC1-9C632BD2B2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8E2C-A054-4E61-812D-7C7B25D270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685960" y="3048120"/>
            <a:ext cx="3772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2" descr=""/>
          <p:cNvPicPr/>
          <p:nvPr/>
        </p:nvPicPr>
        <p:blipFill>
          <a:blip r:embed="rId2"/>
          <a:stretch/>
        </p:blipFill>
        <p:spPr>
          <a:xfrm>
            <a:off x="523800" y="852480"/>
            <a:ext cx="8096400" cy="58276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258920" y="1341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258920" y="2219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303200" y="3141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303200" y="407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258920" y="4941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1258920" y="58770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47600" y="919080"/>
            <a:ext cx="8847000" cy="5019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826920" y="15289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826920" y="242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826920" y="3371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826920" y="422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826920" y="5157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23760" y="1332000"/>
            <a:ext cx="9094680" cy="160020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2" descr=""/>
          <p:cNvPicPr/>
          <p:nvPr/>
        </p:nvPicPr>
        <p:blipFill>
          <a:blip r:embed="rId2"/>
          <a:stretch/>
        </p:blipFill>
        <p:spPr>
          <a:xfrm>
            <a:off x="509760" y="3016080"/>
            <a:ext cx="8608680" cy="21146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826920" y="2262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5364000" y="2219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798480" y="3327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5292720" y="3357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7"/>
          <a:stretch/>
        </p:blipFill>
        <p:spPr>
          <a:xfrm>
            <a:off x="755640" y="4437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8"/>
          <a:stretch/>
        </p:blipFill>
        <p:spPr>
          <a:xfrm>
            <a:off x="5248440" y="42210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17640" y="1654200"/>
            <a:ext cx="9108720" cy="35496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1403280" y="3227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3059280" y="3227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4"/>
          <a:stretch/>
        </p:blipFill>
        <p:spPr>
          <a:xfrm>
            <a:off x="4932360" y="3227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5"/>
          <a:stretch/>
        </p:blipFill>
        <p:spPr>
          <a:xfrm>
            <a:off x="6588000" y="3227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6"/>
          <a:stretch/>
        </p:blipFill>
        <p:spPr>
          <a:xfrm>
            <a:off x="8388360" y="32130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图片 1" descr=""/>
          <p:cNvPicPr/>
          <p:nvPr/>
        </p:nvPicPr>
        <p:blipFill>
          <a:blip r:embed="rId1"/>
          <a:stretch/>
        </p:blipFill>
        <p:spPr>
          <a:xfrm>
            <a:off x="604800" y="1000080"/>
            <a:ext cx="7932600" cy="48578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1317600" y="1557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1332000" y="242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4"/>
          <a:stretch/>
        </p:blipFill>
        <p:spPr>
          <a:xfrm>
            <a:off x="1332000" y="3284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5"/>
          <a:stretch/>
        </p:blipFill>
        <p:spPr>
          <a:xfrm>
            <a:off x="1332000" y="4149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6"/>
          <a:stretch/>
        </p:blipFill>
        <p:spPr>
          <a:xfrm>
            <a:off x="1332000" y="5013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1" name="图片 1" descr=""/>
          <p:cNvPicPr/>
          <p:nvPr/>
        </p:nvPicPr>
        <p:blipFill>
          <a:blip r:embed="rId1"/>
          <a:stretch/>
        </p:blipFill>
        <p:spPr>
          <a:xfrm>
            <a:off x="399960" y="1962000"/>
            <a:ext cx="8344080" cy="29340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2"/>
          <a:stretch/>
        </p:blipFill>
        <p:spPr>
          <a:xfrm>
            <a:off x="1116000" y="2363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3"/>
          <a:stretch/>
        </p:blipFill>
        <p:spPr>
          <a:xfrm>
            <a:off x="1116000" y="2852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4"/>
          <a:stretch/>
        </p:blipFill>
        <p:spPr>
          <a:xfrm>
            <a:off x="1116000" y="3284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5"/>
          <a:stretch/>
        </p:blipFill>
        <p:spPr>
          <a:xfrm>
            <a:off x="1116000" y="36734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6"/>
          <a:stretch/>
        </p:blipFill>
        <p:spPr>
          <a:xfrm>
            <a:off x="1116000" y="4149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7"/>
          <a:stretch/>
        </p:blipFill>
        <p:spPr>
          <a:xfrm>
            <a:off x="1116000" y="455148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20:18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